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wmf" ContentType="image/x-wmf"/>
  <Override PartName="/ppt/media/image15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1EB14-1704-4997-8B01-1D2660E8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0465A-4640-4223-B557-184C7D64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939D2-DA2D-4260-AD0F-9FD84AD0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B8E55-5605-4F42-8CEF-F2A41845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B86F-EBD1-401C-ACAA-C692A340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DCFB-D67B-44F8-8BFF-F0314687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0853-100B-4517-B386-28BE9D5B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74A8-1D6B-46E2-8F64-15E78A9F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0285-CAC8-4EE2-8F64-3B817FD0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D14C-5DF3-47AF-92D6-54F70279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7042-8DD1-4C03-A5C0-4528B356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D5C38-F5D1-4EBE-B6FB-0C702353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8F42-2F5C-4CB5-99BB-7515F6CA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A999-7A70-4DBB-9EE7-A41C79FD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2E20-CF10-48B8-811C-A0DA06AF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3FA7-30E5-4E38-8013-1A849880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3104-7CC3-4A7F-985C-08F73CAF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3005E-AA74-4B84-8F1E-1273F000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C9C22-EC1D-4835-8DED-48BADE9D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B00AE-E572-4C03-BD58-8E77FE76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FA5CB-1D9D-41C6-815B-F22D4B5B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94927-7537-42C1-A032-0E0C0E05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F36F7-439A-4E07-AC1E-E8B9B799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2B79C-8759-4974-86D3-E4B3824B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6A1B-B6F0-4FB8-A577-0B7FFBC10498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CC21-7DF6-4358-AF0E-BA4CFC998602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91856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rebuchet MS"/>
              </a:rPr>
              <a:t>Mecanismos e Valores da Cobrança pelo Uso da Água na Bacia do Rio São Francisco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 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4ª Reunião CTCOB- CNR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omaz Matta Mach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v.201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61720" y="623736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ropriá SE –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-962280" y="55882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 rot="10800000">
            <a:off x="3779640" y="979920"/>
            <a:ext cx="49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Propriá/ SE –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5530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40360" y="306864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Garajú - AL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-962280" y="432000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12160" y="6157800"/>
            <a:ext cx="72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Garajú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-962280" y="55882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-318240" y="6491160"/>
            <a:ext cx="60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iranhas/Alagoas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7876440" y="424692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3920" y="476280"/>
            <a:ext cx="52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Propriá/SE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23280" y="650880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957400" y="4292640"/>
            <a:ext cx="61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iranhas/Alagoas - 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-550080" y="578736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-150120" y="2133720"/>
            <a:ext cx="72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Garajú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23280" y="655308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-45720" y="6165720"/>
            <a:ext cx="59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8253720" y="545400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Garamond"/>
              </a:rPr>
              <a:t>Rede </a:t>
            </a:r>
            <a:r>
              <a:rPr b="1" lang="pt-BR" sz="4400" spc="-1" strike="noStrike" u="sng">
                <a:solidFill>
                  <a:srgbClr val="ffffff"/>
                </a:solidFill>
                <a:uFillTx/>
                <a:latin typeface="Garamond"/>
              </a:rPr>
              <a:t>EcoVazã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84360" y="1989000"/>
            <a:ext cx="7920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Com vistas à definição de um regime ou hidrograma de vazões ecológicas para o baixo curso do Rio São Francisco, estão sendo realizados estudos por uma rede de pesquisa formada por universidades, localizadas na Bacia (UFBA, UFMG, UFS, UFPE, UFLA), financiada pelo CT-Hidro 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(Edital MCT/CNPq – CT-HIDRO 45/2006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A rede 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EcoVazão</a:t>
            </a: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 tem como objetivo a articulação de iniciativas, no campo da produção do conhecimento, que avance no sentido da construção de um saber mais próximo das múltiplas e complexas determinações naturais e sociai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Trebuchet MS"/>
              </a:rPr>
              <a:t>COMITÊ DA BACIA DO RIO SÃO FRANCISCO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Instituído por Decreto Presidencial de 05 de junho de 2001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24 Membros: 62 titulares e 62 suplent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omposição: 32,79% Poder Público; 37,70% Usuários;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24,59% Sociedade Civil; 4,92% Comunidade Tradicion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Diretoria: Presidência – Sociedade Civil/ MG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Vice Presidência – Poder Público/ B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ecretaria Executiva - Poder Público/ 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lto - Poder Público/ MG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édio - Sociedade Civil/ B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ub-médio - Poder Público/ P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Baixo - Sociedade Civil/ S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8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50920" y="260280"/>
            <a:ext cx="8712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AVALIAÇÃO DAS ALTERAÇÕES NAS COMUNIDADES DE PEIXES DE LAGOAS MARGINAIS DO BAIXO CURSO DO RIO SÃO FRANCISCO EM FUNÇÃO DE BARRAMENTO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9080" y="1989000"/>
            <a:ext cx="63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"/>
                <a:ea typeface="Arial"/>
              </a:rPr>
              <a:t>Defesa de mestrado em Ecologia Aplic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5516640"/>
            <a:ext cx="5832360" cy="1072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Marília Lourenço dos Sa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Orientador: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Paulo dos Santos Pomp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Co-orientad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los Bernardo M. Al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057560" y="88920"/>
            <a:ext cx="4998960" cy="66801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5840" y="764640"/>
            <a:ext cx="3673800" cy="4969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IO DAS VELHA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luente em volume e extensão (761 Km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rojeto Manuelzão para Revitalização do Rio das Velh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822240"/>
            <a:ext cx="4464000" cy="58467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859280" y="333000"/>
            <a:ext cx="4105440" cy="6335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ÉDIO SÃO FRANCISCO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echo (600 km) entre Pirapora (MG) e Sobradinho (B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co em lagoas margina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353880"/>
            <a:ext cx="8929800" cy="6503760"/>
            <a:chOff x="0" y="353880"/>
            <a:chExt cx="8929800" cy="6503760"/>
          </a:xfrm>
        </p:grpSpPr>
        <p:grpSp>
          <p:nvGrpSpPr>
            <p:cNvPr id="155" name=""/>
            <p:cNvGrpSpPr/>
            <p:nvPr/>
          </p:nvGrpSpPr>
          <p:grpSpPr>
            <a:xfrm>
              <a:off x="2486160" y="2370240"/>
              <a:ext cx="6443280" cy="4487400"/>
              <a:chOff x="2486160" y="2370240"/>
              <a:chExt cx="6443280" cy="4487400"/>
            </a:xfrm>
          </p:grpSpPr>
          <p:pic>
            <p:nvPicPr>
              <p:cNvPr id="156" name="" descr=""/>
              <p:cNvPicPr/>
              <p:nvPr/>
            </p:nvPicPr>
            <p:blipFill>
              <a:blip r:embed="rId1"/>
              <a:srcRect l="0" t="7569" r="5869" b="0"/>
              <a:stretch/>
            </p:blipFill>
            <p:spPr>
              <a:xfrm>
                <a:off x="2486160" y="2370240"/>
                <a:ext cx="6411600" cy="448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2"/>
              <a:srcRect l="90859" t="1499" r="0" b="83368"/>
              <a:stretch/>
            </p:blipFill>
            <p:spPr>
              <a:xfrm>
                <a:off x="8431920" y="2442600"/>
                <a:ext cx="497520" cy="587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8" name=""/>
            <p:cNvSpPr/>
            <p:nvPr/>
          </p:nvSpPr>
          <p:spPr>
            <a:xfrm>
              <a:off x="0" y="353880"/>
              <a:ext cx="8929800" cy="8193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marL="205560" indent="-205560">
                <a:lnSpc>
                  <a:spcPct val="80000"/>
                </a:lnSpc>
                <a:spcBef>
                  <a:spcPts val="7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    </a:t>
              </a: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BAIXO SÃO FRANCISCO</a:t>
              </a:r>
              <a:r>
                <a:rPr b="0" lang="en-US" sz="3100" spc="-1" strike="noStrike">
                  <a:solidFill>
                    <a:srgbClr val="ffffff"/>
                  </a:solidFill>
                  <a:latin typeface="Garamond"/>
                </a:rPr>
                <a:t>: 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45680" indent="-171360">
                <a:lnSpc>
                  <a:spcPct val="80000"/>
                </a:lnSpc>
                <a:spcBef>
                  <a:spcPts val="675"/>
                </a:spcBef>
                <a:buClr>
                  <a:srgbClr val="33cccc"/>
                </a:buClr>
                <a:buSzPct val="7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45680" indent="-171360">
                <a:lnSpc>
                  <a:spcPct val="80000"/>
                </a:lnSpc>
                <a:spcBef>
                  <a:spcPts val="675"/>
                </a:spcBef>
                <a:buClr>
                  <a:srgbClr val="33cccc"/>
                </a:buClr>
                <a:buSzPct val="7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Garamond"/>
                </a:rPr>
                <a:t>Trecho mais curto (274 km)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611280" y="692280"/>
            <a:ext cx="8532720" cy="6024600"/>
            <a:chOff x="611280" y="692280"/>
            <a:chExt cx="8532720" cy="6024600"/>
          </a:xfrm>
        </p:grpSpPr>
        <p:sp>
          <p:nvSpPr>
            <p:cNvPr id="160" name=""/>
            <p:cNvSpPr/>
            <p:nvPr/>
          </p:nvSpPr>
          <p:spPr>
            <a:xfrm>
              <a:off x="3349800" y="692280"/>
              <a:ext cx="57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iqueza espécies migrador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1"/>
            <a:srcRect l="2362" t="3549" r="43648" b="4170"/>
            <a:stretch/>
          </p:blipFill>
          <p:spPr>
            <a:xfrm>
              <a:off x="611280" y="1557360"/>
              <a:ext cx="4535280" cy="515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"/>
            <a:srcRect l="76779" t="0" r="0" b="73383"/>
            <a:stretch/>
          </p:blipFill>
          <p:spPr>
            <a:xfrm>
              <a:off x="5435640" y="1773360"/>
              <a:ext cx="1655640" cy="12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166360" y="5094360"/>
              <a:ext cx="359748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Kruscal-Wallis: p = 0,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Black"/>
              </a:rPr>
              <a:t>RESULTADOS E DISCUSSÃ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azão Ambiental – ano norm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2960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1280" y="2016000"/>
            <a:ext cx="7993080" cy="41497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6"/>
          <p:cNvSpPr/>
          <p:nvPr/>
        </p:nvSpPr>
        <p:spPr>
          <a:xfrm>
            <a:off x="457200" y="557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azão Ambiental – ano se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rebuchet MS"/>
              </a:rPr>
              <a:t>MECANISMOS DE COBRANÇA PELO USO DA ÁGUA NA BACIA HIDROGRÁFICA DO RIO SÃO FRANCISCO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Qcap  Qcons   CODBO  Kgestã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aramond"/>
              </a:rPr>
              <a:t>Valorcap = Qcap x PPUcap x Kca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aramond"/>
              </a:rPr>
              <a:t>Valorcons = Qcons x PPUcons x Kc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ValorDBO = CODBO x PPULanç x Klanç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rebuchet MS"/>
              </a:rPr>
              <a:t>MECANISMOS DE COBRANÇA PELO USO DA ÁGUA NA BACIA HIDROGRÁFICA DO RIO SÃO FRANCISCO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Uso Inter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Valor total = Valorcap  +  Valorcons + ValorDBO x Kgestã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Uso Exter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Valor total</a:t>
            </a:r>
            <a:r>
              <a:rPr b="1" lang="en-A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=  valorcap+ valorcons x kprioridade x Kgestã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rebuchet MS"/>
              </a:rPr>
              <a:t>VALORES UNITÁRIOS DE COBRANÇA PPUS NA BACIA DO RIO SÃO FRANCISCO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8360" y="2060640"/>
          <a:ext cx="8229600" cy="38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ipo de us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nid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alor (R$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ptação de água bru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c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sumo de água bru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c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nçamento de carga orgânica DB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5,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DB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55308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e5e5ff"/>
                </a:solidFill>
                <a:latin typeface="Trebuchet MS"/>
              </a:rPr>
              <a:t>VALORES DOS COEFICIENTES 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Trebuchet MS"/>
              </a:rPr>
              <a:t>MULTIPLICADORES DE COBRANÇA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600200"/>
          <a:ext cx="8229600" cy="4420800"/>
        </p:xfrm>
        <a:graphic>
          <a:graphicData uri="http://schemas.openxmlformats.org/drawingml/2006/table">
            <a:tbl>
              <a:tblPr/>
              <a:tblGrid>
                <a:gridCol w="3106800"/>
                <a:gridCol w="2379600"/>
                <a:gridCol w="2743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erm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as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 cap clas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cons irri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t (para irrigação, criação animal e aquicultur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t(demais setores usuári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 lanç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prioridad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abasteciment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rebuchet MS"/>
              </a:rPr>
              <a:t>COBRANÇA PROJETO DE INTEGRAÇÃO DO RIO SÃO FRANCISCO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t. 3º - Deliberação CBHSF nº18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a Técnica ANA/SOC nº 492/2004 (coordenadas específicas e distinta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a Técnica ANA/SOC nº 390/200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§1º, do art. 7º - Resolução CNRH nº 48 (diferenciação dos valor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olução nº 1 /2005 Outorga Vale (barragem, captação e lançamento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rebuchet MS"/>
              </a:rPr>
              <a:t>COBRANÇA PROJETO DE INTEGRAÇÃO DO RIO SÃO FRANCISCO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9220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zão de 26,40m3/s ( Outorga 11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 prioridade Deliberação CBHSF nº18/200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xo Leste 10,29m³/s K prioridade= 0,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xo Norte 16,11m³/s K prioridade é igual a 1,0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zão média plurianual outorgad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CONSIDERAÇÕES FINAI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sponibilidade hídrica – NEST-109,9m³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ágrafos 44,45,46..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Vazão firme em cada eix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ferenciação dos eixos: K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Garamond"/>
              </a:rPr>
              <a:t>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ágrafo 2, artigo I, Deliberação 45/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ESO/Sergi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a que comitê de baci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rebuchet MS"/>
              </a:rPr>
              <a:t>DADOS DEMOGRÁFICO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712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Área da bacia: 634.781 km²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8% do território nac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6 Estados: Minas Gerais, Bahia, Pernambuco, Alagoas, Sergipe, Goiá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strito Feder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503 municíp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opulação estimada: 12.796.082 ha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PRINCIPAIS USO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5640" y="1988640"/>
            <a:ext cx="670716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Geração de energia elétrica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Indústr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aneament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gricultur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esca e aquicultur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Navegaçã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Turismo e lazer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rebuchet MS"/>
              </a:rPr>
              <a:t>CONFLITOS EXISTENT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1. Quantidade de águ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a) Geração de energia x outros usos (vazões críticas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)Agricultura irrigada x outros usos, sub-bacias do Paracatu (Entre Ribeiros), Jequitaí-Pacuí (Riachinho), Salitre e Transposiçã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55640" y="1484280"/>
            <a:ext cx="6912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2. Qualidade da água: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Par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Paraopeb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das Velh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Verde-Gran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Trechos da Cal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CONFLITOS EXISTENT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PRINCIPAIS DECISÕES 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rioridade de outorga: uso interno à bac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locação externa: abastecimento humano comprovada a escassez hídric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Vazão alocável: 360m³/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Vazão mínima diária na foz: 1300m³/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Instituição do Processo Administrativo 01/2004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Natureza jurídica da Agênc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Mecanismos e valores de cobrança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AGENDA EM DISCUSSÃO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icação da Entidade Delegatária com funções de Agência da Ba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ato de Gestã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to da Águas (vazões de entreg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talizaçã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cesso administrativo da transposiçã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ção da vazão ambien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8:24:58Z</dcterms:created>
  <dc:creator>Medicina Preventiva e Social</dc:creator>
  <dc:description/>
  <dc:language>en-US</dc:language>
  <cp:lastModifiedBy>ANA</cp:lastModifiedBy>
  <dcterms:modified xsi:type="dcterms:W3CDTF">2010-02-24T12:27:08Z</dcterms:modified>
  <cp:revision>8</cp:revision>
  <dc:subject/>
  <dc:title>Mecanismos  Valores da Cobrança pelo Uso da Água na Bacia do Rio São Francisco   </dc:title>
</cp:coreProperties>
</file>